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B72-145B-4964-BA57-F056ADF8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BEB-6696-4B01-AA55-71AA9D4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1E9-9235-46F3-95D7-66AADE86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3D9-DA15-4345-9EF8-0088CBEB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E65-5BEB-40A1-8AD6-FE993BFE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23-B420-4703-8649-929B37AB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7B5-2D64-4A78-8FA1-6A3D789B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4CC-423B-48F7-AD30-6D550E0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3EC-9337-45A5-9864-B81617D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7B3-A92C-4B6B-85F1-C721F15B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C50-CC79-4FD5-B098-E55D38D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0B8-C73A-42D2-AE67-97F8C8D9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061-E32F-4349-9B6C-0BDDAA5C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WHAT IS EPIDEMIOLOGY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7360" y="838080"/>
            <a:ext cx="833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this cour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 consider real-world health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llness problem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show how epidemiologic concep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and methods allow us to study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understand, and solve such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8T17:17:59Z</dcterms:modified>
  <cp:revision>96</cp:revision>
  <dc:subject/>
  <dc:title>The Art in the State of the Art</dc:title>
</cp:coreProperties>
</file>